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2A4-4F71-4E1E-A361-C85660D8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D8D-CB60-4CBA-8087-AD99DEF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0A5-3EC6-4348-9A31-1F6DB05D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591-09F6-431A-8F89-8B2F334F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9BC-A37F-4E3C-B0DE-1930A015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705-620E-477C-A7C9-AC4C04AB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92A-9990-4D93-B7CC-C6C78481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A58-A84A-416C-8470-1792BED2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D4D-0DDA-4543-BC06-C44DB3E4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EB5-12EA-4074-92A5-0E77E08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0D1-4225-4860-A733-1B094D3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867-4F29-4118-967A-B9D0CDFD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20F-65BB-46F8-8B09-172528974C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eupehs.org/" TargetMode="External"/><Relationship Id="rId4" Type="http://schemas.openxmlformats.org/officeDocument/2006/relationships/hyperlink" Target="mailto:prof.sulz@eupehs.or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14320" y="485640"/>
            <a:ext cx="54864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gst-Syndrom laut VD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: Liegt eine Angst-Störung vo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18960" y="1638360"/>
            <a:ext cx="236232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-Befund abnorme oder irrationale Angst, angstbedingte physische Erregung oder Vermeidung nachweisen, die nicht durch eine psychotische Störung oder eine Zwangsstörung verursacht wird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DS14/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6"/>
          <p:cNvGraphicFramePr/>
          <p:nvPr/>
        </p:nvGraphicFramePr>
        <p:xfrm>
          <a:off x="3819600" y="1638360"/>
          <a:ext cx="2485800" cy="47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9600" y="1638360"/>
                    <a:ext cx="24858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7"/>
          <p:cNvSpPr/>
          <p:nvPr/>
        </p:nvSpPr>
        <p:spPr>
          <a:xfrm>
            <a:off x="331920" y="141444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00680" y="6616800"/>
            <a:ext cx="20905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nn die Verursachung der Symptome durch eine hirnorganische Erkrankung oder  eine Hirnfunktionsstörung ausgeschlossen werde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523800" y="6454800"/>
            <a:ext cx="2538360" cy="88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06.4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organische Angststörung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denken Sie auch die Möglichkeit eines Delirs oder einer Demenz (vgl. Seiten 41-4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254480" y="8771040"/>
            <a:ext cx="158436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ter auf Seite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5046840" y="6029280"/>
            <a:ext cx="0" cy="5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AutoShape 18"/>
          <p:cNvCxnSpPr>
            <a:stCxn id="47" idx="1"/>
            <a:endCxn id="48" idx="3"/>
          </p:cNvCxnSpPr>
          <p:nvPr/>
        </p:nvCxnSpPr>
        <p:spPr>
          <a:xfrm flipH="1" flipV="1">
            <a:off x="3062160" y="6898320"/>
            <a:ext cx="93888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 Box 19"/>
          <p:cNvSpPr/>
          <p:nvPr/>
        </p:nvSpPr>
        <p:spPr>
          <a:xfrm>
            <a:off x="4057560" y="7715160"/>
            <a:ext cx="19764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eten deutliche emotionale Belastungen durch das Vermeidungsverhalten und/oder die Angstsymptome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AutoShape 20"/>
          <p:cNvCxnSpPr>
            <a:stCxn id="47" idx="2"/>
            <a:endCxn id="52" idx="0"/>
          </p:cNvCxnSpPr>
          <p:nvPr/>
        </p:nvCxnSpPr>
        <p:spPr>
          <a:xfrm>
            <a:off x="5045760" y="7197480"/>
            <a:ext cx="36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21"/>
          <p:cNvCxnSpPr>
            <a:stCxn id="52" idx="2"/>
            <a:endCxn id="49" idx="0"/>
          </p:cNvCxnSpPr>
          <p:nvPr/>
        </p:nvCxnSpPr>
        <p:spPr>
          <a:xfrm>
            <a:off x="5045760" y="8295840"/>
            <a:ext cx="108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Line 23"/>
          <p:cNvSpPr/>
          <p:nvPr/>
        </p:nvSpPr>
        <p:spPr>
          <a:xfrm>
            <a:off x="2681280" y="2048040"/>
            <a:ext cx="113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2681280" y="183348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5046840" y="603900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5046840" y="720396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046840" y="8302680"/>
            <a:ext cx="3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3648240" y="6686640"/>
            <a:ext cx="59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1"/>
          <p:cNvSpPr/>
          <p:nvPr/>
        </p:nvSpPr>
        <p:spPr>
          <a:xfrm>
            <a:off x="556200" y="7715160"/>
            <a:ext cx="1968480" cy="855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right: Serge Sul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upehs.org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rof.sulz@eupehs.org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toren: S. Holzer und S.Sul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01560" y="725400"/>
            <a:ext cx="59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: Liegt eine phobische Störung vor (F40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17400" y="31104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38080" y="1695600"/>
            <a:ext cx="230508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eten die Angst-Symptome ausschließlich bei Konfrontation mit phobischen Objekten und/oder Situationen, oder bei Gedanken an die phobischen Objekte und/oder Situationen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124160" y="1940040"/>
            <a:ext cx="133380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ter auf Seite 24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23760" y="5319720"/>
            <a:ext cx="213372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itt die Angst in mindestens zwei der folgenden umschriebenen Situationen auf: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 in Menschenmenge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 auf öffentlichen Plätze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 bei Reisen mit weiter Entfernung von zu Haus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- bei Reisen allein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S14/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004760" y="2990880"/>
            <a:ext cx="19717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st die Vermeidung der jeweiligen phobischen Situationen und/oder Objekte ein entscheidendes Symptom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004760" y="4024440"/>
            <a:ext cx="1971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tand bereits vor dem Auftreten der Angst-Symptome eine depressive Episode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S14 depressives Syndro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981600" y="3962520"/>
            <a:ext cx="176184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rücksichtigen Sie die Depression als Erstdiagnose, falls sie die Kriterien einer depressiven Episode erfüllt.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Seiten 12 - 1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686040" y="5440320"/>
            <a:ext cx="12384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igert sich die Angst in den agoraphobischen Situationen häufig oder immer bis zur Panikattack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591160" y="5559480"/>
            <a:ext cx="93204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0.00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goraphobie ohne Panikstör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643720" y="6486480"/>
            <a:ext cx="93168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0.01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goraphobie mit Panikstör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923760" y="7238880"/>
            <a:ext cx="213372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itt die Angst in bestimmten sozialen Situationen auf und zentriert sich um die Befürchtung einer prüfenden Betrachtung durch andere, Aufmerksamkeit zu erregen, sich zu blamieren oder bloßgestellt zu werd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S14/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124160" y="7540560"/>
            <a:ext cx="10764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0.1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oziale Phobi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166760" y="8751960"/>
            <a:ext cx="164772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ter auf Seite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7"/>
          <p:cNvCxnSpPr>
            <a:stCxn id="65" idx="2"/>
            <a:endCxn id="68" idx="0"/>
          </p:cNvCxnSpPr>
          <p:nvPr/>
        </p:nvCxnSpPr>
        <p:spPr>
          <a:xfrm>
            <a:off x="1990440" y="240480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18"/>
          <p:cNvCxnSpPr>
            <a:stCxn id="65" idx="3"/>
            <a:endCxn id="66" idx="1"/>
          </p:cNvCxnSpPr>
          <p:nvPr/>
        </p:nvCxnSpPr>
        <p:spPr>
          <a:xfrm>
            <a:off x="3142800" y="2050560"/>
            <a:ext cx="981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9"/>
          <p:cNvCxnSpPr>
            <a:stCxn id="69" idx="2"/>
            <a:endCxn id="67" idx="0"/>
          </p:cNvCxnSpPr>
          <p:nvPr/>
        </p:nvCxnSpPr>
        <p:spPr>
          <a:xfrm>
            <a:off x="1990440" y="4611240"/>
            <a:ext cx="108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0"/>
          <p:cNvCxnSpPr>
            <a:stCxn id="68" idx="2"/>
            <a:endCxn id="69" idx="0"/>
          </p:cNvCxnSpPr>
          <p:nvPr/>
        </p:nvCxnSpPr>
        <p:spPr>
          <a:xfrm>
            <a:off x="1990440" y="3455640"/>
            <a:ext cx="108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21"/>
          <p:cNvCxnSpPr>
            <a:stCxn id="69" idx="3"/>
            <a:endCxn id="70" idx="1"/>
          </p:cNvCxnSpPr>
          <p:nvPr/>
        </p:nvCxnSpPr>
        <p:spPr>
          <a:xfrm>
            <a:off x="2976480" y="4317480"/>
            <a:ext cx="10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22"/>
          <p:cNvCxnSpPr>
            <a:stCxn id="67" idx="3"/>
            <a:endCxn id="71" idx="1"/>
          </p:cNvCxnSpPr>
          <p:nvPr/>
        </p:nvCxnSpPr>
        <p:spPr>
          <a:xfrm flipV="1">
            <a:off x="3057480" y="5855400"/>
            <a:ext cx="629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23"/>
          <p:cNvCxnSpPr>
            <a:stCxn id="71" idx="3"/>
            <a:endCxn id="72" idx="1"/>
          </p:cNvCxnSpPr>
          <p:nvPr/>
        </p:nvCxnSpPr>
        <p:spPr>
          <a:xfrm>
            <a:off x="4924440" y="5855760"/>
            <a:ext cx="6580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24"/>
          <p:cNvCxnSpPr>
            <a:stCxn id="71" idx="2"/>
            <a:endCxn id="73" idx="1"/>
          </p:cNvCxnSpPr>
          <p:nvPr/>
        </p:nvCxnSpPr>
        <p:spPr>
          <a:xfrm flipH="1" rot="16200000">
            <a:off x="4711320" y="5864760"/>
            <a:ext cx="515160" cy="1329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25"/>
          <p:cNvCxnSpPr>
            <a:stCxn id="67" idx="2"/>
            <a:endCxn id="74" idx="0"/>
          </p:cNvCxnSpPr>
          <p:nvPr/>
        </p:nvCxnSpPr>
        <p:spPr>
          <a:xfrm>
            <a:off x="1990440" y="6395760"/>
            <a:ext cx="108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26"/>
          <p:cNvCxnSpPr>
            <a:stCxn id="74" idx="3"/>
            <a:endCxn id="75" idx="1"/>
          </p:cNvCxnSpPr>
          <p:nvPr/>
        </p:nvCxnSpPr>
        <p:spPr>
          <a:xfrm>
            <a:off x="3057120" y="7716960"/>
            <a:ext cx="10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27"/>
          <p:cNvCxnSpPr>
            <a:stCxn id="74" idx="2"/>
            <a:endCxn id="76" idx="0"/>
          </p:cNvCxnSpPr>
          <p:nvPr/>
        </p:nvCxnSpPr>
        <p:spPr>
          <a:xfrm>
            <a:off x="1990440" y="8193240"/>
            <a:ext cx="108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Text Box 28"/>
          <p:cNvSpPr/>
          <p:nvPr/>
        </p:nvSpPr>
        <p:spPr>
          <a:xfrm>
            <a:off x="1990800" y="2405160"/>
            <a:ext cx="27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990800" y="3456000"/>
            <a:ext cx="27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1990800" y="6396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3143160" y="1832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3057480" y="5641920"/>
            <a:ext cx="27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305240" y="6288120"/>
            <a:ext cx="27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1990800" y="46116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2976480" y="4103640"/>
            <a:ext cx="27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924440" y="5643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3057480" y="7500960"/>
            <a:ext cx="27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8"/>
          <p:cNvSpPr/>
          <p:nvPr/>
        </p:nvSpPr>
        <p:spPr>
          <a:xfrm>
            <a:off x="1990800" y="8193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9"/>
          <p:cNvSpPr/>
          <p:nvPr/>
        </p:nvSpPr>
        <p:spPr>
          <a:xfrm>
            <a:off x="1971720" y="1219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1"/>
          <p:cNvSpPr/>
          <p:nvPr/>
        </p:nvSpPr>
        <p:spPr>
          <a:xfrm>
            <a:off x="3981600" y="2743200"/>
            <a:ext cx="176184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wägen sie die Diagnose einer sonstigen (F40.8) oder nicht näher bezeichneten phobischen Störung (F40.9), bedenken sie aber, dass die Ängste trotz fehlender Vermeidung pathologischer Natur sein müss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2"/>
          <p:cNvSpPr/>
          <p:nvPr/>
        </p:nvSpPr>
        <p:spPr>
          <a:xfrm>
            <a:off x="2976480" y="3209760"/>
            <a:ext cx="10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23800" y="2000160"/>
            <a:ext cx="223848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itt die Angst nur bei einem umschriebenen phobischen Objekt oder einer phobischen Situation auf, die nicht in Verbindung zu einem Zwangsgedanken steh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14/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57240" y="3370320"/>
            <a:ext cx="13716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en diese Stimuli außerhalb der betreffenden Pers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57360" y="4518000"/>
            <a:ext cx="196668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ürchtet der Patient beispielsweise grundlos an einer Krankheit zu leiden oder erkranken zu können, oder liegt eine Dyamorphobie vor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S14 somatoformes Syndrom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Seiten 53 – 5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73680" y="6056280"/>
            <a:ext cx="160956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5.2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hypochondrische Störung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Es empfiehlt sich eine Absicherung der Diagnose mittels ICD-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38080" y="6191280"/>
            <a:ext cx="16099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st die Überzeugung krank zu sein bis ins wahnhafte gesteigert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66960" y="7483320"/>
            <a:ext cx="13525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22.0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wahnhafte Störung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vgl. zur Absicherung der Diagnose Seite 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22520" y="3419640"/>
            <a:ext cx="122256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0.2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pezifische Phobi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328920" y="2109960"/>
            <a:ext cx="14097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0.8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sonstige phobische Stör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310360" y="2244600"/>
            <a:ext cx="140940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ter auf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21"/>
          <p:cNvCxnSpPr>
            <a:stCxn id="104" idx="3"/>
            <a:endCxn id="111" idx="1"/>
          </p:cNvCxnSpPr>
          <p:nvPr/>
        </p:nvCxnSpPr>
        <p:spPr>
          <a:xfrm flipV="1">
            <a:off x="2762280" y="2349000"/>
            <a:ext cx="5580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AutoShape 22"/>
          <p:cNvCxnSpPr>
            <a:stCxn id="111" idx="3"/>
            <a:endCxn id="112" idx="1"/>
          </p:cNvCxnSpPr>
          <p:nvPr/>
        </p:nvCxnSpPr>
        <p:spPr>
          <a:xfrm>
            <a:off x="4748040" y="2349360"/>
            <a:ext cx="5630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23"/>
          <p:cNvCxnSpPr>
            <a:stCxn id="104" idx="2"/>
            <a:endCxn id="105" idx="0"/>
          </p:cNvCxnSpPr>
          <p:nvPr/>
        </p:nvCxnSpPr>
        <p:spPr>
          <a:xfrm>
            <a:off x="1642680" y="2709360"/>
            <a:ext cx="1080" cy="6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24"/>
          <p:cNvCxnSpPr>
            <a:stCxn id="105" idx="3"/>
            <a:endCxn id="110" idx="1"/>
          </p:cNvCxnSpPr>
          <p:nvPr/>
        </p:nvCxnSpPr>
        <p:spPr>
          <a:xfrm flipV="1">
            <a:off x="2328840" y="3596760"/>
            <a:ext cx="10850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25"/>
          <p:cNvCxnSpPr>
            <a:stCxn id="105" idx="2"/>
            <a:endCxn id="106" idx="0"/>
          </p:cNvCxnSpPr>
          <p:nvPr/>
        </p:nvCxnSpPr>
        <p:spPr>
          <a:xfrm flipH="1">
            <a:off x="1641240" y="3835440"/>
            <a:ext cx="216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28"/>
          <p:cNvCxnSpPr>
            <a:stCxn id="108" idx="2"/>
            <a:endCxn id="109" idx="0"/>
          </p:cNvCxnSpPr>
          <p:nvPr/>
        </p:nvCxnSpPr>
        <p:spPr>
          <a:xfrm>
            <a:off x="1642680" y="6656040"/>
            <a:ext cx="108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Text Box 29"/>
          <p:cNvSpPr/>
          <p:nvPr/>
        </p:nvSpPr>
        <p:spPr>
          <a:xfrm>
            <a:off x="2328840" y="3389400"/>
            <a:ext cx="3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2762280" y="2141640"/>
            <a:ext cx="47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1643040" y="2709720"/>
            <a:ext cx="3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4738680" y="2119320"/>
            <a:ext cx="47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1643040" y="3835440"/>
            <a:ext cx="47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1643040" y="6657840"/>
            <a:ext cx="3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2448000" y="6210360"/>
            <a:ext cx="47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1647720" y="5359320"/>
            <a:ext cx="3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1614600" y="12668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40"/>
          <p:cNvCxnSpPr>
            <a:stCxn id="106" idx="2"/>
          </p:cNvCxnSpPr>
          <p:nvPr/>
        </p:nvCxnSpPr>
        <p:spPr>
          <a:xfrm>
            <a:off x="1641600" y="5349600"/>
            <a:ext cx="216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41"/>
          <p:cNvCxnSpPr>
            <a:stCxn id="108" idx="3"/>
            <a:endCxn id="107" idx="1"/>
          </p:cNvCxnSpPr>
          <p:nvPr/>
        </p:nvCxnSpPr>
        <p:spPr>
          <a:xfrm flipV="1">
            <a:off x="2447640" y="6417720"/>
            <a:ext cx="151668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Rectangle 4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3"/>
          <p:cNvSpPr/>
          <p:nvPr/>
        </p:nvSpPr>
        <p:spPr>
          <a:xfrm>
            <a:off x="295200" y="8467560"/>
            <a:ext cx="62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"/>
              </a:rPr>
              <a:t>Anmerkung: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Sollte eine eindeutig phobische Angststörung vorliegen, die aber nicht die hier aufgelisteten Kriterien erfüllen, kann die Diagnose sonstige phobische Störung (F40.8) oder nicht näher bezeichnete phobische Störung (F40.9) vergeben werd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35120" y="839880"/>
            <a:ext cx="592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: Liegt eine sonstige Angst-Störung vor (F41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17400" y="31104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01760" y="2085840"/>
            <a:ext cx="18842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eten die Angst-Symptome objekt- und situationsunabhängig oder frei flottierend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048120" y="2208240"/>
            <a:ext cx="132372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ter auf Seite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01760" y="3029040"/>
            <a:ext cx="188424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eten die Angst-Symptome akut und anfallsartig auf, wobei sie nicht auf einen speziellen Situationstyp beschränkt sind (phobische Situation)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S14/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957400" y="3213000"/>
            <a:ext cx="19335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eten die Angst-Symptome chronisch- persistiernd auf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S14/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01760" y="4627440"/>
            <a:ext cx="18842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teht in den jeweiligen Situationen keine objektive Gefah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01760" y="5915160"/>
            <a:ext cx="18842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nd die Angst-Attacken nicht vorhersehba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01760" y="7077240"/>
            <a:ext cx="188424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tehen zwischen den Angst-Attacken - abgesehen von Erwartungsangst - weitgehend angstfreie Zeiträum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957400" y="4505400"/>
            <a:ext cx="193356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nd sie begleitet von ständigen irrationalen Befürchtungen und Sorgen, motorischer Spannung und vegetativer Übererregbarkeit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890800" y="5672160"/>
            <a:ext cx="20718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nd eine depressive Episode F32 (vgl. depressives Syndrom), eine phobische Störung F40 (vgl. Seite 22), eine Panikstörung F41.0 und eine Zwangsstörung F42 (vgl. Zwangs-Syndrom) ausgeschlosse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957400" y="7137360"/>
            <a:ext cx="19335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eten die Angst-Symptome an den meisten Tagen mindestens mehrerer zusammenhängender Wochen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3138480" y="8458200"/>
            <a:ext cx="157176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1.1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generalisierte Angststör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561960" y="8458200"/>
            <a:ext cx="157176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1.0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anikstör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20"/>
          <p:cNvCxnSpPr>
            <a:stCxn id="134" idx="2"/>
            <a:endCxn id="136" idx="0"/>
          </p:cNvCxnSpPr>
          <p:nvPr/>
        </p:nvCxnSpPr>
        <p:spPr>
          <a:xfrm>
            <a:off x="1344240" y="2550960"/>
            <a:ext cx="1080" cy="47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21"/>
          <p:cNvCxnSpPr>
            <a:stCxn id="134" idx="3"/>
            <a:endCxn id="135" idx="1"/>
          </p:cNvCxnSpPr>
          <p:nvPr/>
        </p:nvCxnSpPr>
        <p:spPr>
          <a:xfrm>
            <a:off x="2285640" y="231912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22"/>
          <p:cNvCxnSpPr>
            <a:stCxn id="136" idx="3"/>
            <a:endCxn id="137" idx="1"/>
          </p:cNvCxnSpPr>
          <p:nvPr/>
        </p:nvCxnSpPr>
        <p:spPr>
          <a:xfrm>
            <a:off x="2285640" y="3444480"/>
            <a:ext cx="672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23"/>
          <p:cNvCxnSpPr>
            <a:stCxn id="137" idx="3"/>
            <a:endCxn id="150" idx="1"/>
          </p:cNvCxnSpPr>
          <p:nvPr/>
        </p:nvCxnSpPr>
        <p:spPr>
          <a:xfrm>
            <a:off x="4890960" y="3446640"/>
            <a:ext cx="5814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36" idx="2"/>
            <a:endCxn id="138" idx="0"/>
          </p:cNvCxnSpPr>
          <p:nvPr/>
        </p:nvCxnSpPr>
        <p:spPr>
          <a:xfrm>
            <a:off x="1344240" y="3860640"/>
            <a:ext cx="1080" cy="76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6"/>
          <p:cNvCxnSpPr>
            <a:stCxn id="137" idx="2"/>
            <a:endCxn id="141" idx="0"/>
          </p:cNvCxnSpPr>
          <p:nvPr/>
        </p:nvCxnSpPr>
        <p:spPr>
          <a:xfrm>
            <a:off x="3924000" y="3678120"/>
            <a:ext cx="10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7"/>
          <p:cNvCxnSpPr>
            <a:stCxn id="138" idx="2"/>
            <a:endCxn id="139" idx="0"/>
          </p:cNvCxnSpPr>
          <p:nvPr/>
        </p:nvCxnSpPr>
        <p:spPr>
          <a:xfrm>
            <a:off x="1344240" y="4970520"/>
            <a:ext cx="108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8"/>
          <p:cNvCxnSpPr>
            <a:stCxn id="141" idx="2"/>
            <a:endCxn id="142" idx="0"/>
          </p:cNvCxnSpPr>
          <p:nvPr/>
        </p:nvCxnSpPr>
        <p:spPr>
          <a:xfrm>
            <a:off x="3924000" y="5092560"/>
            <a:ext cx="3960" cy="58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9"/>
          <p:cNvCxnSpPr>
            <a:stCxn id="139" idx="2"/>
            <a:endCxn id="140" idx="0"/>
          </p:cNvCxnSpPr>
          <p:nvPr/>
        </p:nvCxnSpPr>
        <p:spPr>
          <a:xfrm>
            <a:off x="1344240" y="6257880"/>
            <a:ext cx="1080" cy="82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0"/>
          <p:cNvCxnSpPr>
            <a:stCxn id="142" idx="2"/>
            <a:endCxn id="143" idx="0"/>
          </p:cNvCxnSpPr>
          <p:nvPr/>
        </p:nvCxnSpPr>
        <p:spPr>
          <a:xfrm flipH="1">
            <a:off x="3923640" y="6503760"/>
            <a:ext cx="3960" cy="63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31"/>
          <p:cNvCxnSpPr>
            <a:stCxn id="140" idx="2"/>
            <a:endCxn id="145" idx="0"/>
          </p:cNvCxnSpPr>
          <p:nvPr/>
        </p:nvCxnSpPr>
        <p:spPr>
          <a:xfrm>
            <a:off x="1344240" y="7664040"/>
            <a:ext cx="3960" cy="78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AutoShape 32"/>
          <p:cNvCxnSpPr>
            <a:stCxn id="143" idx="2"/>
            <a:endCxn id="144" idx="0"/>
          </p:cNvCxnSpPr>
          <p:nvPr/>
        </p:nvCxnSpPr>
        <p:spPr>
          <a:xfrm>
            <a:off x="3924000" y="7602120"/>
            <a:ext cx="1080" cy="84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Line 33"/>
          <p:cNvSpPr/>
          <p:nvPr/>
        </p:nvSpPr>
        <p:spPr>
          <a:xfrm flipH="1">
            <a:off x="1344240" y="1419120"/>
            <a:ext cx="32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1347840" y="255096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2286000" y="323208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>
            <a:off x="2286000" y="208584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4890960" y="321300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3924360" y="36781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1347840" y="386064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1344600" y="49849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3924360" y="509256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1347840" y="625788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1347840" y="766440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3924360" y="65041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3924360" y="760248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6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5472000" y="3156120"/>
            <a:ext cx="12510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nd die Angstsymptome gemischt mit anderen Symptome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5456160" y="4627440"/>
            <a:ext cx="127656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ter auf Seite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AutoShape 49"/>
          <p:cNvCxnSpPr>
            <a:stCxn id="150" idx="2"/>
            <a:endCxn id="173" idx="0"/>
          </p:cNvCxnSpPr>
          <p:nvPr/>
        </p:nvCxnSpPr>
        <p:spPr>
          <a:xfrm flipH="1">
            <a:off x="6093720" y="3743280"/>
            <a:ext cx="396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Text Box 50"/>
          <p:cNvSpPr/>
          <p:nvPr/>
        </p:nvSpPr>
        <p:spPr>
          <a:xfrm>
            <a:off x="6097680" y="375300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2"/>
          <p:cNvSpPr/>
          <p:nvPr/>
        </p:nvSpPr>
        <p:spPr>
          <a:xfrm>
            <a:off x="4890960" y="4791240"/>
            <a:ext cx="3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3"/>
          <p:cNvSpPr/>
          <p:nvPr/>
        </p:nvSpPr>
        <p:spPr>
          <a:xfrm flipV="1">
            <a:off x="5248440" y="3449160"/>
            <a:ext cx="0" cy="13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4"/>
          <p:cNvSpPr/>
          <p:nvPr/>
        </p:nvSpPr>
        <p:spPr>
          <a:xfrm>
            <a:off x="4890960" y="4576680"/>
            <a:ext cx="51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017400" y="31104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195720" y="1866960"/>
            <a:ext cx="170496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tehen Angst-Symptome gemischt mit Symptomen anderer Störungen aus F4, wobei die Kriterien der jeweiligen Störungen nicht voll erfüllt werde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04800" y="3152880"/>
            <a:ext cx="170496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chtfertigt dabei keines der Störungsbilder eine eigene Diagnose, d.h. die Symptome erfüllen nicht die Kriterien einer phobischen Störung F40, einer Angststörung aus F41.0 oder F41.1 oder einer depressiven Episod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04800" y="4941720"/>
            <a:ext cx="170496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eten zumindest vorübergehend vegetative Symptome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42880" y="5829480"/>
            <a:ext cx="18288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nn eine Dysthymia ausgeschlossen werd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VDS14 depressives Syndrom und Seite 19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04800" y="2048040"/>
            <a:ext cx="17049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tehen Angst-Symptome gemischt mit einigen depressiven Symp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3095640" y="3370320"/>
            <a:ext cx="190512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1.3 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ndere gemischte Angststörung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04800" y="7077240"/>
            <a:ext cx="17049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1.2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ngst und depressive Störung gemisc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486400" y="1886040"/>
            <a:ext cx="1184400" cy="76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Überprüfen Sie das Vorliegen einer Belastungs- oder Anpassungsstöru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ter auf Seite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11"/>
          <p:cNvCxnSpPr>
            <a:stCxn id="184" idx="2"/>
            <a:endCxn id="181" idx="0"/>
          </p:cNvCxnSpPr>
          <p:nvPr/>
        </p:nvCxnSpPr>
        <p:spPr>
          <a:xfrm>
            <a:off x="1456920" y="2512800"/>
            <a:ext cx="1080" cy="64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12"/>
          <p:cNvCxnSpPr>
            <a:stCxn id="180" idx="2"/>
            <a:endCxn id="185" idx="0"/>
          </p:cNvCxnSpPr>
          <p:nvPr/>
        </p:nvCxnSpPr>
        <p:spPr>
          <a:xfrm>
            <a:off x="4047840" y="2698920"/>
            <a:ext cx="10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Line 13"/>
          <p:cNvSpPr/>
          <p:nvPr/>
        </p:nvSpPr>
        <p:spPr>
          <a:xfrm>
            <a:off x="2319480" y="227664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4900680" y="2266920"/>
            <a:ext cx="58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16"/>
          <p:cNvCxnSpPr>
            <a:stCxn id="181" idx="2"/>
            <a:endCxn id="182" idx="0"/>
          </p:cNvCxnSpPr>
          <p:nvPr/>
        </p:nvCxnSpPr>
        <p:spPr>
          <a:xfrm>
            <a:off x="1456920" y="4228920"/>
            <a:ext cx="1080" cy="71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AutoShape 17"/>
          <p:cNvCxnSpPr>
            <a:stCxn id="182" idx="2"/>
            <a:endCxn id="183" idx="0"/>
          </p:cNvCxnSpPr>
          <p:nvPr/>
        </p:nvCxnSpPr>
        <p:spPr>
          <a:xfrm>
            <a:off x="1456920" y="528444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AutoShape 18"/>
          <p:cNvCxnSpPr>
            <a:stCxn id="183" idx="2"/>
            <a:endCxn id="186" idx="0"/>
          </p:cNvCxnSpPr>
          <p:nvPr/>
        </p:nvCxnSpPr>
        <p:spPr>
          <a:xfrm>
            <a:off x="1456920" y="6416640"/>
            <a:ext cx="108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Text Box 19"/>
          <p:cNvSpPr/>
          <p:nvPr/>
        </p:nvSpPr>
        <p:spPr>
          <a:xfrm>
            <a:off x="1457280" y="2513160"/>
            <a:ext cx="29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281320" y="2062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862520" y="2048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048200" y="2698920"/>
            <a:ext cx="29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1457280" y="4229280"/>
            <a:ext cx="29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1457280" y="5284800"/>
            <a:ext cx="29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1457280" y="6416640"/>
            <a:ext cx="29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1428840" y="15429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209520" y="8381880"/>
            <a:ext cx="636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"/>
              </a:rPr>
              <a:t>Anmerkung: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Sollte eine eindeutige nicht phobische Angststörung vorliegen, die aber nicht die hier aufgelisteten Kriterien erfüllen, kann die Diagnose sonstige spezifische Angststörung (F41.8) oder nicht näher bezeichnete Angststörung (F41.9) vergeben werd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064920" y="31104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49440" y="792000"/>
            <a:ext cx="592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: Liegt eine Belastungs- oder Anpassungsstörung mit Angst vor (F43)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11120" y="2181240"/>
            <a:ext cx="18842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ten die Angstsymptome als Reaktion auf ein traumatisches Ereignis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33680" y="6265800"/>
            <a:ext cx="188424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nn ein wiederholtes Wiedererleben des traumatischen Ereignisses oder ein ständiges Erinnern festgestellt werde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898880" y="6140520"/>
            <a:ext cx="190512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3.1 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osttraumatische Belastungsstörung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95160" y="6205680"/>
            <a:ext cx="131472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t die Störung innerhalb von sechs Monaten nach dem ursprünglichen Ereignis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11120" y="3448080"/>
            <a:ext cx="18842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t die Störung unmittelbar nach dem ursprünglichen Ereignis 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362400" y="3262320"/>
            <a:ext cx="190476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3.0 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kute Belastungsstörung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96960" y="4548240"/>
            <a:ext cx="131436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rat die Störung innerhalb von einem Monaten nach dem ursprünglichen Ereignis auf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400560" y="4541760"/>
            <a:ext cx="190476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43.2*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npassungsstörung 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13"/>
          <p:cNvCxnSpPr>
            <a:stCxn id="207" idx="2"/>
            <a:endCxn id="211" idx="0"/>
          </p:cNvCxnSpPr>
          <p:nvPr/>
        </p:nvCxnSpPr>
        <p:spPr>
          <a:xfrm>
            <a:off x="1353600" y="2646000"/>
            <a:ext cx="108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15"/>
          <p:cNvCxnSpPr>
            <a:stCxn id="211" idx="3"/>
            <a:endCxn id="212" idx="1"/>
          </p:cNvCxnSpPr>
          <p:nvPr/>
        </p:nvCxnSpPr>
        <p:spPr>
          <a:xfrm>
            <a:off x="2295000" y="3619080"/>
            <a:ext cx="10580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Line 16"/>
          <p:cNvSpPr/>
          <p:nvPr/>
        </p:nvSpPr>
        <p:spPr>
          <a:xfrm>
            <a:off x="1335240" y="154296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7"/>
          <p:cNvCxnSpPr>
            <a:stCxn id="211" idx="2"/>
            <a:endCxn id="213" idx="0"/>
          </p:cNvCxnSpPr>
          <p:nvPr/>
        </p:nvCxnSpPr>
        <p:spPr>
          <a:xfrm>
            <a:off x="1353600" y="3790800"/>
            <a:ext cx="1080" cy="75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18"/>
          <p:cNvCxnSpPr>
            <a:stCxn id="213" idx="3"/>
            <a:endCxn id="214" idx="1"/>
          </p:cNvCxnSpPr>
          <p:nvPr/>
        </p:nvCxnSpPr>
        <p:spPr>
          <a:xfrm>
            <a:off x="2011320" y="4903560"/>
            <a:ext cx="138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AutoShape 19"/>
          <p:cNvCxnSpPr>
            <a:stCxn id="213" idx="2"/>
            <a:endCxn id="210" idx="0"/>
          </p:cNvCxnSpPr>
          <p:nvPr/>
        </p:nvCxnSpPr>
        <p:spPr>
          <a:xfrm flipH="1">
            <a:off x="1352160" y="5257440"/>
            <a:ext cx="216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20"/>
          <p:cNvCxnSpPr>
            <a:stCxn id="210" idx="3"/>
            <a:endCxn id="208" idx="1"/>
          </p:cNvCxnSpPr>
          <p:nvPr/>
        </p:nvCxnSpPr>
        <p:spPr>
          <a:xfrm flipV="1">
            <a:off x="2009520" y="6559200"/>
            <a:ext cx="524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21"/>
          <p:cNvCxnSpPr>
            <a:stCxn id="208" idx="3"/>
            <a:endCxn id="209" idx="1"/>
          </p:cNvCxnSpPr>
          <p:nvPr/>
        </p:nvCxnSpPr>
        <p:spPr>
          <a:xfrm>
            <a:off x="4417920" y="6559200"/>
            <a:ext cx="472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Text Box 22"/>
          <p:cNvSpPr/>
          <p:nvPr/>
        </p:nvSpPr>
        <p:spPr>
          <a:xfrm>
            <a:off x="1335240" y="2646360"/>
            <a:ext cx="37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2247840" y="340524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1352520" y="52671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1353960" y="379080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1954080" y="469584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4370400" y="634680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954080" y="634536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649440" y="7585200"/>
            <a:ext cx="59734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F43.22 Angst und depressive Reaktion gemisc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43.23 mit vorwiegender Beeinträchtigung anderer Gefüh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43.28 mit sonstigen spezifischen deutlichen Symp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ICD-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01:19:04Z</dcterms:created>
  <dc:creator>stefan holzer</dc:creator>
  <dc:description/>
  <dc:language>en-US</dc:language>
  <cp:lastModifiedBy>Serge Sulz</cp:lastModifiedBy>
  <dcterms:modified xsi:type="dcterms:W3CDTF">2021-05-31T07:08:02Z</dcterms:modified>
  <cp:revision>27</cp:revision>
  <dc:subject/>
  <dc:title>PowerPoint-Präsentation</dc:title>
</cp:coreProperties>
</file>